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9FD-9560-48E0-BA5B-0BBA0F52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557-1969-4B8B-925A-4524A79A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431-C1F1-43B2-B76D-32C4AF4D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D88-620B-4254-AD36-C3F5CB1E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81D-35EB-4843-9927-020F1CF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0E1-017F-46BF-997C-8956434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900-3258-4DCE-BBD2-FD4A4792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214-3025-40D7-B3E2-41431407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D79-E09F-4140-91C5-0F385F6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1D0-39DA-453F-BA63-B0D14E2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A08-9ED9-4AE3-AED2-65EC833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179-4ED6-4885-9A84-0D2B3A8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9A8C-D448-41C0-AE5F-B4A432F868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 for UMIE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school of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aka city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shihiro Naka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shi@econ.osaka-cu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m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ends one unit of selling order and one unit of buying order every s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s are decided by simpl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 on the function, I make three kinds of market mak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Price : limit price of selling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 Price:  limit price of buying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M Model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arketMakerStrategy_MM1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Spread 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380988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810240" cy="29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668600" y="2205000"/>
          <a:ext cx="516240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8600" y="2205000"/>
                    <a:ext cx="51624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M Model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rketMakerStrategy_MM2)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3809880" cy="296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3671640" cy="285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908000" y="2205000"/>
          <a:ext cx="5361120" cy="9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205000"/>
                    <a:ext cx="536112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M Model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rketMakerStrategy_MM3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ynomial 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6760" y="3500280"/>
            <a:ext cx="3810240" cy="296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3809880" cy="29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908000" y="2124000"/>
          <a:ext cx="536112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124000"/>
                    <a:ext cx="53611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ïve Market Ma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MarketMakerStrategy_M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ends one unit of selling order and one unit of buying order every s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s are decided randomly but selling &gt; bu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Agent for Thin Mark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MarketMakerStrategy_M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ends orders randomly with probability 0.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s are decided random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中島義裕</cp:lastModifiedBy>
  <dcterms:modified xsi:type="dcterms:W3CDTF">2005-09-07T20:06:58Z</dcterms:modified>
  <cp:revision>11</cp:revision>
  <dc:subject/>
  <dc:title>PowerPoint Presentation</dc:title>
</cp:coreProperties>
</file>